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ABA5-54DE-48F9-889C-B31B96D79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7433-BDFF-46D5-AFA5-B0EEE2E8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9938-AB4A-4D28-9D70-4DDED3521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3AA3-6384-416A-ADF3-4352DC273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5C21-EB54-4747-9EB5-C6803B13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4C00-8826-44E9-8D2F-EFB72267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72AC-273C-4FBA-AC84-203D5B75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3491-75A6-4423-B88B-CA5196EF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7895-CB8D-4CA3-914F-C956F3A3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50F4-4809-44AD-B4E4-69EB4D80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3B93-A225-4319-B193-BCAE6950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241E-75E6-4E1E-825B-63FC77F2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EF23-4538-4554-B83C-B95E43B42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s – Whole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all part of a learning coll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peaking, address the whole gro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ons are intended to move the collective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 in need of an answer, ask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age fully in the mo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s – Smaller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all part of a learning coll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peaking, address the whole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one has a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on your colleagues’ expertise and offer your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 in need of an answer, ask n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age fully in the mo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14:44:58Z</dcterms:created>
  <dc:creator>Information Systems</dc:creator>
  <dc:description/>
  <dc:language>en-US</dc:language>
  <cp:lastModifiedBy>Information Systems</cp:lastModifiedBy>
  <dcterms:modified xsi:type="dcterms:W3CDTF">2009-10-04T05:59:31Z</dcterms:modified>
  <cp:revision>3</cp:revision>
  <dc:subject/>
  <dc:title>Norms – Whole Group</dc:title>
</cp:coreProperties>
</file>